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4D3-54C1-48B6-8535-FF5E318F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ED5-E512-4C21-9852-D50A033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BF3-B00B-4592-8FF4-DC095ADC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2CA8-932A-4C35-BF6C-9F6E46E62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F952-1306-4EE6-BF7B-53DA5D0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05F-AE63-4EA4-9142-5E73CCBE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492-18DC-4297-9B3D-515EA2E3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C153-25B3-4802-8381-530FFE47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004-ECC8-4700-96E7-1B6BDADD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7C17-3CAC-48EA-820E-6EA35DE6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110-0623-4907-A7D0-E1F4F330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E7B-CB4D-4489-AF8E-37E6B628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11E3-CE0F-4845-A30E-49E8794AA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kyingblogger.com/10-great-scientist-diedinjuried-seriously-in-experiment/" TargetMode="External"/><Relationship Id="rId2" Type="http://schemas.openxmlformats.org/officeDocument/2006/relationships/hyperlink" Target="http://www.famousquotesandauthors.com/authors/sir_humphrey_davy_quotes.html" TargetMode="External"/><Relationship Id="rId3" Type="http://schemas.openxmlformats.org/officeDocument/2006/relationships/hyperlink" Target="http://openlibrary.org/authors/OL2957336A/Sir_Humphry_Davy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7772400" cy="1469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umphry Dav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733560"/>
            <a:ext cx="45720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Hayden T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le of cont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1- Important d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2- Child 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3- Inventions/discov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4-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5- Close death situatio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6- Tod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7- pic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8- Work sited p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n 12-17-17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d in 5-29-18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as knighted in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 laughing gas in 18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went to school at Truro Grammer Sch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one brother three si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 Dad died when he was sixt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w up p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ld 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ventions/discover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nvention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ers 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 l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cover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d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ass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gnesi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ose Death experien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d a heart att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t ill from to much gas inha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much inhalation of hydrogen g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 has discovered major import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laughing gas is used in a variety of different w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425680" cy="305748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57400" cy="18288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1714680" cy="297180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838080" y="449568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ey D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th his arc l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56386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ys fly fishing 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77120" y="2133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mphry D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k sited p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kyingblogger.com/10-great-scientist-diedinjuried-seriously-in-experimen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amousquotesandauthors.com/authors/sir_humphrey_davy_quote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openlibrary.org/authors/OL2957336A/Sir_Humphry_D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3:59:58Z</dcterms:created>
  <dc:creator>ncdesk4</dc:creator>
  <dc:description/>
  <dc:language>en-US</dc:language>
  <cp:lastModifiedBy>ncdesk4</cp:lastModifiedBy>
  <dcterms:modified xsi:type="dcterms:W3CDTF">2011-04-07T15:18:18Z</dcterms:modified>
  <cp:revision>7</cp:revision>
  <dc:subject/>
  <dc:title>Humphry Davy </dc:title>
</cp:coreProperties>
</file>